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3B8-42B6-42AC-940D-01D5AE36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3C5-146F-42E4-A3CC-C7043D67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7D70-F1BC-4626-AD10-75E455E3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34E-C23B-4B7A-86A0-0C71B7AB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95B8-3F22-47C4-AD30-F1E4D0FF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772B-B0D6-44AE-AAE7-BFF82EC5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48FD-534A-47FF-864D-5A4C7B4B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ACBA-B37E-4857-8648-7C9C31D2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2801-63F8-4A46-8DDC-D6E860E2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53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B25B-49A0-4233-97CE-98FE0ABE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6C9F-7368-4CDF-8A9D-3E41606E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EC8-7615-43B6-9685-2B7D8DE1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D6AC-3E0B-4D7F-A945-48FBC6FE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3F4D-7CE8-4DF9-B03B-1832D309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15DD-F978-4335-8FDF-37113B31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D7B7-CA6F-4AD2-87CE-142676F4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4487-BD76-49DC-8541-F961F28E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9370E-5C7F-432E-B6EC-7C35A563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18C88-096C-4D73-B2C1-0A019638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723C-697A-4494-9E4B-7BCD134A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3BC0C-7A0F-481F-9C0F-F33F3C9E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64184-93E7-4CF7-B50E-A98D9C3D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255-E131-4811-848F-BDFE06CF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653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DC21A-A884-4606-A141-A270BA4F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DA002-1DE7-4CB8-8569-698B9692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0E220-D942-46E3-AF64-946AFB7D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00C5-51AD-4182-8FB9-CA5C03FA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69366-38BC-458B-B478-9F49C2F7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FB05A-110B-474F-9C9F-43AA9FA3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5AF5C-2336-4963-9EC7-999F37D9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35CD0-6FB7-411F-814E-11F425D7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BC955-3E89-493C-AF1E-F1588FEC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ADB9A-DD60-4953-A979-76803D9A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942-10D6-4535-9348-3E47B2AA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E09A9-FC15-4DDC-85C8-B4062B47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43AC3-2E19-476D-84BB-C62F034E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53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5F9F-5418-461B-81DE-9976A265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C9549-0881-4D65-BD67-FC57D0A8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2AD0E-A6F2-48E8-B9AD-09645EB9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53577-366D-4E42-9B0C-59EC1E33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2508E-B661-416B-8E45-DAAFDFE5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BA847-BAF5-4062-B228-F9F91A2E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AFBA8-8051-4EF5-BE5D-3FF63333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41F-9B67-470C-8C11-819716B6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3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9F1-0D34-4587-B233-E0450DE9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24C-E93A-4B23-9B82-69AA4517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D8A-B4BD-46B5-9D60-7C2330C9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00B-074F-4C4F-8306-A2931A9A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837F-DDF8-4259-A766-F5C1EC85B9A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CCD2-6B00-4F9F-87A3-6B4BAD53C50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-468720" y="-293400"/>
            <a:ext cx="9765000" cy="7676280"/>
            <a:chOff x="-468720" y="-293400"/>
            <a:chExt cx="9765000" cy="7676280"/>
          </a:xfrm>
        </p:grpSpPr>
        <p:grpSp>
          <p:nvGrpSpPr>
            <p:cNvPr id="82" name=""/>
            <p:cNvGrpSpPr/>
            <p:nvPr/>
          </p:nvGrpSpPr>
          <p:grpSpPr>
            <a:xfrm>
              <a:off x="-468720" y="-293400"/>
              <a:ext cx="9765000" cy="7676280"/>
              <a:chOff x="-468720" y="-293400"/>
              <a:chExt cx="9765000" cy="7676280"/>
            </a:xfrm>
          </p:grpSpPr>
          <p:sp>
            <p:nvSpPr>
              <p:cNvPr id="83" name=""/>
              <p:cNvSpPr/>
              <p:nvPr/>
            </p:nvSpPr>
            <p:spPr>
              <a:xfrm>
                <a:off x="5260680" y="474660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492360" y="410544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632040" y="483732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141440" y="5648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318000" y="29052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3560" y="327528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3318000">
                <a:off x="3576600" y="30078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 rot="20977200">
                <a:off x="469224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890440" y="476244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6245000">
                <a:off x="5737680" y="59551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6018000">
                <a:off x="311976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6283800">
                <a:off x="5395680" y="48682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 rot="19272000">
                <a:off x="506052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rot="564000">
                <a:off x="2850120" y="374328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947600" y="43340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78920" y="409284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42640" y="47674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9469400">
                <a:off x="1171440" y="59400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90440" y="3102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90480" y="326232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3318000">
                <a:off x="-117000" y="318564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20977200">
                <a:off x="1379160" y="535644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-22320" y="4692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16245000">
                <a:off x="2405520" y="591696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508000">
                <a:off x="-39600" y="55882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6283800">
                <a:off x="1854000" y="460800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 rot="19272000">
                <a:off x="1499400" y="3238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rot="564000">
                <a:off x="79488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20600" y="1381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228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-31680" y="177660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14444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63440" y="-3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63480" y="157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318000">
                <a:off x="29376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20977200">
                <a:off x="135216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93400" y="1511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rot="16245000">
                <a:off x="2359440" y="23227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428800">
                <a:off x="-257040" y="2673360"/>
                <a:ext cx="127260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283800">
                <a:off x="2055240" y="150264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272000">
                <a:off x="1472760" y="132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rot="564000">
                <a:off x="-3132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246280" y="1381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7796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93640" y="1776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7012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89480" y="-324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8916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3318000">
                <a:off x="3181320" y="80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rot="20977200">
                <a:off x="467820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28680" y="170208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6245000">
                <a:off x="568512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2428800">
                <a:off x="3068280" y="267336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6283800">
                <a:off x="5381640" y="1502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 rot="19272000">
                <a:off x="4798800" y="133560"/>
                <a:ext cx="10155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rot="564000">
                <a:off x="293184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8056440" y="13766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05440" y="75420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1120" y="1790640"/>
                <a:ext cx="103140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083080" y="2506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64040" y="381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3318000">
                <a:off x="6565680" y="-7632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rot="20977200">
                <a:off x="800532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870240" y="1506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16245000">
                <a:off x="8209440" y="5099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428800">
                <a:off x="6604920" y="25545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283800">
                <a:off x="777564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 rot="21012000">
                <a:off x="8130960" y="14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rot="564000">
                <a:off x="6068880" y="735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521400">
                <a:off x="8098920" y="4691520"/>
                <a:ext cx="1090800" cy="96624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05440" y="410688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621120" y="51436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5845200">
                <a:off x="8005680" y="57315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02200" y="32385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3318000">
                <a:off x="650880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20977200">
                <a:off x="7814880" y="584856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356160" y="506916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6819600">
                <a:off x="6605280" y="57736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6283800">
                <a:off x="7280280" y="4088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 rot="15949200">
                <a:off x="8120520" y="3349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564000">
                <a:off x="6316200" y="384012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93680" y="465120"/>
              <a:ext cx="8745120" cy="223920"/>
              <a:chOff x="193680" y="465120"/>
              <a:chExt cx="8745120" cy="223920"/>
            </a:xfrm>
          </p:grpSpPr>
          <p:sp>
            <p:nvSpPr>
              <p:cNvPr id="165" name=""/>
              <p:cNvSpPr/>
              <p:nvPr/>
            </p:nvSpPr>
            <p:spPr>
              <a:xfrm>
                <a:off x="193680" y="46512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5080" y="52884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85680" y="374760"/>
              <a:ext cx="8745120" cy="223560"/>
              <a:chOff x="85680" y="374760"/>
              <a:chExt cx="8745120" cy="223560"/>
            </a:xfrm>
          </p:grpSpPr>
          <p:sp>
            <p:nvSpPr>
              <p:cNvPr id="168" name=""/>
              <p:cNvSpPr/>
              <p:nvPr/>
            </p:nvSpPr>
            <p:spPr>
              <a:xfrm>
                <a:off x="85680" y="374760"/>
                <a:ext cx="874512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7080" y="438480"/>
                <a:ext cx="8649360" cy="554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57320" y="468360"/>
              <a:ext cx="137448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219240" y="146160"/>
              <a:ext cx="1253880" cy="1164960"/>
              <a:chOff x="219240" y="146160"/>
              <a:chExt cx="1253880" cy="1164960"/>
            </a:xfrm>
          </p:grpSpPr>
          <p:sp>
            <p:nvSpPr>
              <p:cNvPr id="172" name=""/>
              <p:cNvSpPr/>
              <p:nvPr/>
            </p:nvSpPr>
            <p:spPr>
              <a:xfrm>
                <a:off x="219240" y="159120"/>
                <a:ext cx="1253880" cy="11520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1920" y="165960"/>
                <a:ext cx="282960" cy="845640"/>
              </a:xfrm>
              <a:custGeom>
                <a:avLst/>
                <a:gdLst/>
                <a:ahLst/>
                <a:rect l="l" t="t" r="r" b="b"/>
                <a:pathLst>
                  <a:path w="642" h="1919">
                    <a:moveTo>
                      <a:pt x="209" y="42"/>
                    </a:moveTo>
                    <a:cubicBezTo>
                      <a:pt x="59" y="125"/>
                      <a:pt x="0" y="338"/>
                      <a:pt x="1" y="551"/>
                    </a:cubicBezTo>
                    <a:cubicBezTo>
                      <a:pt x="2" y="764"/>
                      <a:pt x="132" y="1103"/>
                      <a:pt x="218" y="1319"/>
                    </a:cubicBezTo>
                    <a:cubicBezTo>
                      <a:pt x="304" y="1535"/>
                      <a:pt x="462" y="1771"/>
                      <a:pt x="518" y="1845"/>
                    </a:cubicBezTo>
                    <a:cubicBezTo>
                      <a:pt x="574" y="1919"/>
                      <a:pt x="594" y="1892"/>
                      <a:pt x="551" y="1761"/>
                    </a:cubicBezTo>
                    <a:cubicBezTo>
                      <a:pt x="508" y="1630"/>
                      <a:pt x="314" y="1260"/>
                      <a:pt x="259" y="1060"/>
                    </a:cubicBezTo>
                    <a:cubicBezTo>
                      <a:pt x="204" y="860"/>
                      <a:pt x="204" y="704"/>
                      <a:pt x="218" y="559"/>
                    </a:cubicBezTo>
                    <a:cubicBezTo>
                      <a:pt x="232" y="414"/>
                      <a:pt x="300" y="266"/>
                      <a:pt x="343" y="192"/>
                    </a:cubicBezTo>
                    <a:cubicBezTo>
                      <a:pt x="386" y="118"/>
                      <a:pt x="427" y="139"/>
                      <a:pt x="476" y="117"/>
                    </a:cubicBezTo>
                    <a:cubicBezTo>
                      <a:pt x="525" y="95"/>
                      <a:pt x="628" y="76"/>
                      <a:pt x="635" y="58"/>
                    </a:cubicBezTo>
                    <a:cubicBezTo>
                      <a:pt x="642" y="40"/>
                      <a:pt x="569" y="16"/>
                      <a:pt x="518" y="8"/>
                    </a:cubicBezTo>
                    <a:cubicBezTo>
                      <a:pt x="467" y="0"/>
                      <a:pt x="378" y="2"/>
                      <a:pt x="326" y="8"/>
                    </a:cubicBezTo>
                    <a:cubicBezTo>
                      <a:pt x="274" y="14"/>
                      <a:pt x="259" y="0"/>
                      <a:pt x="209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8440" y="146160"/>
                <a:ext cx="1063080" cy="277560"/>
              </a:xfrm>
              <a:custGeom>
                <a:avLst/>
                <a:gdLst/>
                <a:ahLst/>
                <a:rect l="l" t="t" r="r" b="b"/>
                <a:pathLst>
                  <a:path w="2411" h="630">
                    <a:moveTo>
                      <a:pt x="11" y="117"/>
                    </a:moveTo>
                    <a:cubicBezTo>
                      <a:pt x="41" y="92"/>
                      <a:pt x="124" y="20"/>
                      <a:pt x="250" y="10"/>
                    </a:cubicBezTo>
                    <a:cubicBezTo>
                      <a:pt x="375" y="0"/>
                      <a:pt x="545" y="18"/>
                      <a:pt x="765" y="58"/>
                    </a:cubicBezTo>
                    <a:cubicBezTo>
                      <a:pt x="986" y="100"/>
                      <a:pt x="1341" y="187"/>
                      <a:pt x="1574" y="256"/>
                    </a:cubicBezTo>
                    <a:cubicBezTo>
                      <a:pt x="1807" y="324"/>
                      <a:pt x="2032" y="415"/>
                      <a:pt x="2162" y="470"/>
                    </a:cubicBezTo>
                    <a:cubicBezTo>
                      <a:pt x="2293" y="525"/>
                      <a:pt x="2336" y="565"/>
                      <a:pt x="2359" y="586"/>
                    </a:cubicBezTo>
                    <a:cubicBezTo>
                      <a:pt x="2383" y="607"/>
                      <a:pt x="2411" y="630"/>
                      <a:pt x="2307" y="601"/>
                    </a:cubicBezTo>
                    <a:cubicBezTo>
                      <a:pt x="2204" y="573"/>
                      <a:pt x="1980" y="481"/>
                      <a:pt x="1741" y="415"/>
                    </a:cubicBezTo>
                    <a:cubicBezTo>
                      <a:pt x="1502" y="351"/>
                      <a:pt x="1100" y="251"/>
                      <a:pt x="874" y="212"/>
                    </a:cubicBezTo>
                    <a:cubicBezTo>
                      <a:pt x="648" y="173"/>
                      <a:pt x="495" y="169"/>
                      <a:pt x="382" y="179"/>
                    </a:cubicBezTo>
                    <a:cubicBezTo>
                      <a:pt x="269" y="189"/>
                      <a:pt x="256" y="269"/>
                      <a:pt x="198" y="270"/>
                    </a:cubicBezTo>
                    <a:cubicBezTo>
                      <a:pt x="140" y="271"/>
                      <a:pt x="62" y="212"/>
                      <a:pt x="31" y="187"/>
                    </a:cubicBezTo>
                    <a:cubicBezTo>
                      <a:pt x="0" y="162"/>
                      <a:pt x="15" y="132"/>
                      <a:pt x="11" y="11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6440" y="453240"/>
                <a:ext cx="68184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91040" y="371880"/>
                <a:ext cx="406080" cy="40176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7"/>
          </p:nvPr>
        </p:nvSpPr>
        <p:spPr>
          <a:xfrm>
            <a:off x="685800" y="6281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8"/>
          </p:nvPr>
        </p:nvSpPr>
        <p:spPr>
          <a:xfrm>
            <a:off x="3124080" y="62816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9"/>
          </p:nvPr>
        </p:nvSpPr>
        <p:spPr>
          <a:xfrm>
            <a:off x="6553080" y="6281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14B5-5972-483A-A741-FBFA4205E111}" type="slidenum"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-468720" y="-293400"/>
            <a:ext cx="9765000" cy="7676280"/>
            <a:chOff x="-468720" y="-293400"/>
            <a:chExt cx="9765000" cy="7676280"/>
          </a:xfrm>
        </p:grpSpPr>
        <p:grpSp>
          <p:nvGrpSpPr>
            <p:cNvPr id="219" name=""/>
            <p:cNvGrpSpPr/>
            <p:nvPr/>
          </p:nvGrpSpPr>
          <p:grpSpPr>
            <a:xfrm>
              <a:off x="-468720" y="-293400"/>
              <a:ext cx="9765000" cy="7676280"/>
              <a:chOff x="-468720" y="-293400"/>
              <a:chExt cx="9765000" cy="7676280"/>
            </a:xfrm>
          </p:grpSpPr>
          <p:sp>
            <p:nvSpPr>
              <p:cNvPr id="220" name=""/>
              <p:cNvSpPr/>
              <p:nvPr/>
            </p:nvSpPr>
            <p:spPr>
              <a:xfrm>
                <a:off x="5260680" y="474660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92360" y="410544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32040" y="483732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41440" y="5648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18000" y="29052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03560" y="327528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3318000">
                <a:off x="3576600" y="30078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rot="20977200">
                <a:off x="469224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890440" y="476244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rot="16245000">
                <a:off x="5737680" y="59551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6018000">
                <a:off x="311976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6283800">
                <a:off x="5395680" y="48682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 rot="19272000">
                <a:off x="506052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rot="564000">
                <a:off x="2850120" y="374328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947600" y="43340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8920" y="409284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2640" y="47674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9469400">
                <a:off x="1171440" y="59400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90440" y="3102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90480" y="326232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3318000">
                <a:off x="-117000" y="318564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rot="20977200">
                <a:off x="1379160" y="535644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-22320" y="4692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rot="16245000">
                <a:off x="2405520" y="591696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08000">
                <a:off x="-39600" y="55882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6283800">
                <a:off x="1854000" y="460800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 rot="19272000">
                <a:off x="1499400" y="3238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564000">
                <a:off x="79488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20600" y="1381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5228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-31680" y="177660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14444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63440" y="-3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63480" y="157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3318000">
                <a:off x="29376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20977200">
                <a:off x="135216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93400" y="1511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16245000">
                <a:off x="2359440" y="23227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428800">
                <a:off x="-257040" y="2673360"/>
                <a:ext cx="127260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6283800">
                <a:off x="2055240" y="150264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 rot="19272000">
                <a:off x="1472760" y="132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564000">
                <a:off x="-3132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46280" y="1381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47796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93640" y="1776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7012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89480" y="-324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8916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18000">
                <a:off x="3181320" y="80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977200">
                <a:off x="467820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28680" y="170208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rot="16245000">
                <a:off x="568512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428800">
                <a:off x="3068280" y="267336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6283800">
                <a:off x="5381640" y="1502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9272000">
                <a:off x="4798800" y="133560"/>
                <a:ext cx="10155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rot="564000">
                <a:off x="293184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8056440" y="13766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05440" y="75420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621120" y="1790640"/>
                <a:ext cx="103140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083080" y="2506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664040" y="381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3318000">
                <a:off x="6565680" y="-7632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20977200">
                <a:off x="800532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870240" y="1506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16245000">
                <a:off x="8209440" y="5099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2428800">
                <a:off x="6604920" y="25545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6283800">
                <a:off x="777564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 rot="21012000">
                <a:off x="8130960" y="14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rot="564000">
                <a:off x="6068880" y="735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6521400">
                <a:off x="8098920" y="4691520"/>
                <a:ext cx="1090800" cy="96624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805440" y="410688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621120" y="51436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845200">
                <a:off x="8005680" y="57315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702200" y="32385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318000">
                <a:off x="650880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rot="20977200">
                <a:off x="7814880" y="584856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56160" y="506916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6819600">
                <a:off x="6605280" y="57736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83800">
                <a:off x="7280280" y="4088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 rot="15949200">
                <a:off x="8120520" y="3349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rot="564000">
                <a:off x="6316200" y="384012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 rot="17967600">
              <a:off x="356760" y="3306960"/>
              <a:ext cx="1782720" cy="16365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28600" y="3525840"/>
              <a:ext cx="8745120" cy="223920"/>
              <a:chOff x="228600" y="3525840"/>
              <a:chExt cx="8745120" cy="223920"/>
            </a:xfrm>
          </p:grpSpPr>
          <p:sp>
            <p:nvSpPr>
              <p:cNvPr id="303" name=""/>
              <p:cNvSpPr/>
              <p:nvPr/>
            </p:nvSpPr>
            <p:spPr>
              <a:xfrm>
                <a:off x="228600" y="35258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0000" y="35895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20600" y="3435480"/>
              <a:ext cx="8745120" cy="223560"/>
              <a:chOff x="120600" y="3435480"/>
              <a:chExt cx="8745120" cy="223560"/>
            </a:xfrm>
          </p:grpSpPr>
          <p:sp>
            <p:nvSpPr>
              <p:cNvPr id="306" name=""/>
              <p:cNvSpPr/>
              <p:nvPr/>
            </p:nvSpPr>
            <p:spPr>
              <a:xfrm>
                <a:off x="120600" y="3435480"/>
                <a:ext cx="874512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2000" y="3499200"/>
                <a:ext cx="8649360" cy="554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54800" y="2772360"/>
              <a:ext cx="2102040" cy="2152080"/>
              <a:chOff x="154800" y="2772360"/>
              <a:chExt cx="2102040" cy="2152080"/>
            </a:xfrm>
          </p:grpSpPr>
          <p:sp>
            <p:nvSpPr>
              <p:cNvPr id="309" name=""/>
              <p:cNvSpPr/>
              <p:nvPr/>
            </p:nvSpPr>
            <p:spPr>
              <a:xfrm rot="17970000">
                <a:off x="392040" y="3101040"/>
                <a:ext cx="1627200" cy="1494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7970000">
                <a:off x="560880" y="3728520"/>
                <a:ext cx="367200" cy="1096920"/>
              </a:xfrm>
              <a:custGeom>
                <a:avLst/>
                <a:gdLst/>
                <a:ahLst/>
                <a:rect l="l" t="t" r="r" b="b"/>
                <a:pathLst>
                  <a:path w="642" h="1919">
                    <a:moveTo>
                      <a:pt x="209" y="42"/>
                    </a:moveTo>
                    <a:cubicBezTo>
                      <a:pt x="59" y="125"/>
                      <a:pt x="0" y="338"/>
                      <a:pt x="1" y="551"/>
                    </a:cubicBezTo>
                    <a:cubicBezTo>
                      <a:pt x="2" y="764"/>
                      <a:pt x="132" y="1103"/>
                      <a:pt x="218" y="1319"/>
                    </a:cubicBezTo>
                    <a:cubicBezTo>
                      <a:pt x="304" y="1535"/>
                      <a:pt x="462" y="1771"/>
                      <a:pt x="518" y="1845"/>
                    </a:cubicBezTo>
                    <a:cubicBezTo>
                      <a:pt x="574" y="1919"/>
                      <a:pt x="594" y="1892"/>
                      <a:pt x="551" y="1761"/>
                    </a:cubicBezTo>
                    <a:cubicBezTo>
                      <a:pt x="508" y="1630"/>
                      <a:pt x="314" y="1260"/>
                      <a:pt x="259" y="1060"/>
                    </a:cubicBezTo>
                    <a:cubicBezTo>
                      <a:pt x="204" y="860"/>
                      <a:pt x="204" y="704"/>
                      <a:pt x="218" y="559"/>
                    </a:cubicBezTo>
                    <a:cubicBezTo>
                      <a:pt x="232" y="414"/>
                      <a:pt x="300" y="266"/>
                      <a:pt x="343" y="192"/>
                    </a:cubicBezTo>
                    <a:cubicBezTo>
                      <a:pt x="386" y="118"/>
                      <a:pt x="427" y="139"/>
                      <a:pt x="476" y="117"/>
                    </a:cubicBezTo>
                    <a:cubicBezTo>
                      <a:pt x="525" y="95"/>
                      <a:pt x="628" y="76"/>
                      <a:pt x="635" y="58"/>
                    </a:cubicBezTo>
                    <a:cubicBezTo>
                      <a:pt x="642" y="40"/>
                      <a:pt x="569" y="16"/>
                      <a:pt x="518" y="8"/>
                    </a:cubicBezTo>
                    <a:cubicBezTo>
                      <a:pt x="467" y="0"/>
                      <a:pt x="378" y="2"/>
                      <a:pt x="326" y="8"/>
                    </a:cubicBezTo>
                    <a:cubicBezTo>
                      <a:pt x="274" y="14"/>
                      <a:pt x="259" y="0"/>
                      <a:pt x="209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7970000">
                <a:off x="-2520" y="3398400"/>
                <a:ext cx="1379520" cy="360000"/>
              </a:xfrm>
              <a:custGeom>
                <a:avLst/>
                <a:gdLst/>
                <a:ahLst/>
                <a:rect l="l" t="t" r="r" b="b"/>
                <a:pathLst>
                  <a:path w="2411" h="630">
                    <a:moveTo>
                      <a:pt x="11" y="117"/>
                    </a:moveTo>
                    <a:cubicBezTo>
                      <a:pt x="41" y="92"/>
                      <a:pt x="124" y="20"/>
                      <a:pt x="250" y="10"/>
                    </a:cubicBezTo>
                    <a:cubicBezTo>
                      <a:pt x="375" y="0"/>
                      <a:pt x="545" y="18"/>
                      <a:pt x="765" y="58"/>
                    </a:cubicBezTo>
                    <a:cubicBezTo>
                      <a:pt x="986" y="100"/>
                      <a:pt x="1341" y="187"/>
                      <a:pt x="1574" y="256"/>
                    </a:cubicBezTo>
                    <a:cubicBezTo>
                      <a:pt x="1807" y="324"/>
                      <a:pt x="2032" y="415"/>
                      <a:pt x="2162" y="470"/>
                    </a:cubicBezTo>
                    <a:cubicBezTo>
                      <a:pt x="2293" y="525"/>
                      <a:pt x="2336" y="565"/>
                      <a:pt x="2359" y="586"/>
                    </a:cubicBezTo>
                    <a:cubicBezTo>
                      <a:pt x="2383" y="607"/>
                      <a:pt x="2411" y="630"/>
                      <a:pt x="2307" y="601"/>
                    </a:cubicBezTo>
                    <a:cubicBezTo>
                      <a:pt x="2204" y="573"/>
                      <a:pt x="1980" y="481"/>
                      <a:pt x="1741" y="415"/>
                    </a:cubicBezTo>
                    <a:cubicBezTo>
                      <a:pt x="1502" y="351"/>
                      <a:pt x="1100" y="251"/>
                      <a:pt x="874" y="212"/>
                    </a:cubicBezTo>
                    <a:cubicBezTo>
                      <a:pt x="648" y="173"/>
                      <a:pt x="495" y="169"/>
                      <a:pt x="382" y="179"/>
                    </a:cubicBezTo>
                    <a:cubicBezTo>
                      <a:pt x="269" y="189"/>
                      <a:pt x="256" y="269"/>
                      <a:pt x="198" y="270"/>
                    </a:cubicBezTo>
                    <a:cubicBezTo>
                      <a:pt x="140" y="271"/>
                      <a:pt x="62" y="212"/>
                      <a:pt x="31" y="187"/>
                    </a:cubicBezTo>
                    <a:cubicBezTo>
                      <a:pt x="0" y="162"/>
                      <a:pt x="15" y="132"/>
                      <a:pt x="11" y="11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7970000">
                <a:off x="870840" y="3358440"/>
                <a:ext cx="884880" cy="85860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7970000">
                <a:off x="661680" y="3655440"/>
                <a:ext cx="526680" cy="5212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4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35E8-FFFD-40F1-8FF7-AC7967841D90}" type="slidenum"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9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14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The Coming of the Civil War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Unit Five – Chapters 17-20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Dred Scott / Lincoln-Douglas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427-433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Dred Scott Cas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ssue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Outcome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rash of 1857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Lincoln vs. Dougla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Freeport Doctrine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Future Impact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e rise and fall of John Brown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1860 Election / End of the Union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434-441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Political Party Chang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Democrat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onstitutional Union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Republican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Election of 1860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ession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rittenden Compromis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lantation System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360-371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Planter Aristocracy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mpacts on Southern society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Plantation system issu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Economic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ocia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Life in Slavery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ree Blacks vs. Slav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Abolitionist Movement 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371-378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Key Figur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William Lloyd Garrison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Frederick Douglas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Harriet Beecher Stowe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outhern Respons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Nat Turner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Happy life of the Slave?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Manifest Destiny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380-388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John Tyler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Aroostook War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exa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mpact of statehood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Oregon Fever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Manifest Destiny and the Election of 1844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olk’s Administration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388-398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Oregon territory resolution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Issues with Mexico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lidell mission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Mexican – American War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Wilmot Proviso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Future impact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Treaty of Guadalupe Hidalgo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California / Southern Grievances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400-407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Election of 1848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Free-Soiler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alifornia Gold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outhern Issu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Underground railroad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Balance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Compromise of 1850 / Election of 1852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407-414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ompromise of 1850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lay-Webster vs. Calhoun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ondition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ssues / Impact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Election of 1852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Candidates / Platform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Pierce’s Administration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Ostend Manifesto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Gadsden Purchase/Kansas-Nebraska Act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 Pages 414- 418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Gadsden Purchas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mpact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Kansas – Nebraska Ac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Goal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Issues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Republican Party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Contest for Kansas / Election of 1856</a:t>
            </a:r>
            <a:br>
              <a:rPr sz="4000"/>
            </a:b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Pages 420-427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Nebrascals vs. Border ruffian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John Brown’s first appearanc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Lecompton Constitution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e Crime against Kansas”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Election of 1856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20:21:02Z</dcterms:created>
  <dc:creator> </dc:creator>
  <dc:description/>
  <cp:keywords/>
  <dc:language>en-US</dc:language>
  <cp:lastModifiedBy>School District U46</cp:lastModifiedBy>
  <dcterms:modified xsi:type="dcterms:W3CDTF">2008-11-05T21:30:27Z</dcterms:modified>
  <cp:revision>61</cp:revision>
  <dc:subject/>
  <dc:title>The Coming of the Civil W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